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BEF65-5D32-4092-AEA6-32A4054C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A0AB-D87B-4CB5-9B1F-1F0DA051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1C3B-BF24-410B-B8FE-4E80A04A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0405F-0ABA-4F10-BECF-F5D1B31A5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5370B-87AB-41DC-9EE7-AF92AEBB2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9E434-9CD5-4853-A38F-A8D29805E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C65F9-CF4A-47B7-9116-383E947A6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4789B-B9CF-4ABF-8E3F-C1BEF6E9B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68934-4079-4D7B-829D-75D887CE6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9DE84-8085-443D-92DE-7A94CD37A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203A5-0D56-43FE-BA92-10351118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D376-EF57-4D16-935A-38C4B429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CBE7A-4CDF-4977-88D3-A23BEC9D2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BB3F1-ADC9-4098-A4FF-D5AB148F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F6A53-223E-4BB6-9318-F40AAC8C4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BC3E6-ADCE-4270-8EFE-22032A7B7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BBDC7-2772-4C3F-9B5C-C021AFCEC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CA3F-0950-427B-8376-79702707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12A1-D56E-4965-9805-72871AF2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009CC-8D7B-4084-BD94-0F07DA342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9E236-832B-4975-A2C6-667AEE098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08F1-AD9E-4F6C-8FEF-02A6FC31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49935-6D02-47C9-9A3C-08AB46ED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8552-ECFC-4A9D-A2BF-133E8A51D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6806-5BF3-4EBD-8C5E-14DB25F183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944F-C3F1-4AA9-B9A3-64FABD6A33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ffingtonpost.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lstreet Journal</a:t>
            </a:r>
            <a:endParaRPr b="0" lang="en-US" sz="3200" spc="-1" strike="noStrike">
              <a:solidFill>
                <a:srgbClr val="ffffff"/>
              </a:solidFill>
              <a:latin typeface="Tahoma"/>
            </a:endParaRPr>
          </a:p>
        </p:txBody>
      </p:sp>
      <p:sp>
        <p:nvSpPr>
          <p:cNvPr id="126" name=""/>
          <p:cNvSpPr/>
          <p:nvPr/>
        </p:nvSpPr>
        <p:spPr>
          <a:xfrm>
            <a:off x="990720" y="2590920"/>
            <a:ext cx="701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huffingtonpost.com/2009/02/18/gop-governors-consider-tu_n_168099.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914400" y="4572000"/>
            <a:ext cx="6934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online.wsj.com/article/SB123681955537903003.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45:53Z</dcterms:modified>
  <cp:revision>13</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