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51B0-8B80-44C4-8CF8-2B4DFAB15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FA0B-F262-4E98-AFD9-F4F7A2B8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3A26-4E49-4A76-A038-C3834F8C1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5025-FA16-4F3C-8868-AEA076F75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7E2D-E4E3-46FD-B862-3CDCB7B9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438A-AF0C-4ADD-AD7A-62635C46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4A41-06C5-4CC6-955C-8A4CBE08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8666-451F-4570-B23F-FF5296A5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8BDA-9F75-4465-AE68-971FF032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7A36-DD1E-45A5-80CB-7E88B294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2DA8-9962-4FC4-BD80-10898459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557F-68BE-446E-8143-02139072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A47D-6AF3-4397-88E1-86978A586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0PgjcgqFYP4" TargetMode="External"/><Relationship Id="rId2" Type="http://schemas.openxmlformats.org/officeDocument/2006/relationships/hyperlink" Target="http://www.youtube.com/watch?v=cd_ai2LrgJ0" TargetMode="External"/><Relationship Id="rId3" Type="http://schemas.openxmlformats.org/officeDocument/2006/relationships/hyperlink" Target="http://www.youtube.com/watch?v=cd_ai2LrgJ0" TargetMode="External"/><Relationship Id="rId4" Type="http://schemas.openxmlformats.org/officeDocument/2006/relationships/hyperlink" Target="http://www.youtube.com/watch?v=cd_ai2LrgJ0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ition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28800" y="2666880"/>
            <a:ext cx="5524560" cy="276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828800" y="2666880"/>
            <a:ext cx="55245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re Marriage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2008 California supreme court ruled that barring same-sexed couples from marriage is a violation of same-sexed couples’ constitutional righ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2057400"/>
            <a:ext cx="4267080" cy="3021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876920" y="2057400"/>
            <a:ext cx="426708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eginning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2008 Prop 8 proponents submitted a pet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placed on the ballot for the 2008 general e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10080" y="365760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562720" y="13716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 8 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sides raised large amounts of m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s featured political heavy weights and celebr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029200" y="1219320"/>
            <a:ext cx="2819520" cy="2116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34120" y="3429000"/>
            <a:ext cx="23875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3636" t="33873" r="45455" b="10487"/>
          <a:stretch/>
        </p:blipFill>
        <p:spPr>
          <a:xfrm>
            <a:off x="0" y="1828800"/>
            <a:ext cx="5143680" cy="4219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105520" y="2209680"/>
            <a:ext cx="32004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 8 pa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3%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7%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added a new section (7.5) to article 1 of the California state co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marriage between a man and a woman is valid or recognized in California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876920" y="2057400"/>
            <a:ext cx="4038480" cy="3021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638680" y="2590920"/>
            <a:ext cx="2667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all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wsuits to repeal the ballot were fi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2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2009 the California supreme court ruled to uphold the ball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18,000 same-sex marriages will remain val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038480" y="2362320"/>
            <a:ext cx="47246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s on E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petition to strike down prop 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will remove section 7.5 of artic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also specifically states that no school curriculum will have to change nor will any church have to perform a service that is incongruent with their belief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34120" y="2438280"/>
            <a:ext cx="297180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0PgjcgqFYP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youtube.com/watch?v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=cd_ai2LrgJ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01:18:17Z</dcterms:created>
  <dc:creator>Tyler</dc:creator>
  <dc:description/>
  <dc:language>en-US</dc:language>
  <cp:lastModifiedBy>Tyler</cp:lastModifiedBy>
  <dcterms:modified xsi:type="dcterms:W3CDTF">2009-07-20T18:58:03Z</dcterms:modified>
  <cp:revision>24</cp:revision>
  <dc:subject/>
  <dc:title>Slide 1</dc:title>
</cp:coreProperties>
</file>