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A2F2-6556-4FA9-8C6F-067C7413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B3CA-81CB-4AB8-B29A-1CF58DD7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727A-9362-4E55-BFFD-B9F002C4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E94-3951-47CD-A2DD-36E17E19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455B-09CB-48A5-AEB3-B5933DB8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36F1-C998-40A5-B18E-4B1DB61E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E46E-3525-4D20-AA4F-95251CAD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F473-9C49-4B88-B4D6-C43FBD14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C5C5-069C-4EAA-B38F-2CF3143C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B8BA-5D65-4B2F-970B-F210BC94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19A5-0F0C-41A4-8F8E-9CF03E6C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189A-4520-4A5E-B0FF-189494FB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312C-B38A-4572-B143-92F0154AD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0PgjcgqFYP4" TargetMode="External"/><Relationship Id="rId2" Type="http://schemas.openxmlformats.org/officeDocument/2006/relationships/hyperlink" Target="http://www.youtube.com/watch?v=cd_ai2LrgJ0" TargetMode="External"/><Relationship Id="rId3" Type="http://schemas.openxmlformats.org/officeDocument/2006/relationships/hyperlink" Target="http://www.youtube.com/watch?v=cd_ai2LrgJ0" TargetMode="External"/><Relationship Id="rId4" Type="http://schemas.openxmlformats.org/officeDocument/2006/relationships/hyperlink" Target="http://www.youtube.com/watch?v=cd_ai2LrgJ0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iti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5524560" cy="276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828800" y="2666880"/>
            <a:ext cx="55245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re Marriage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2008 California supreme court ruled that barring same-sexed couples from marriage is a violation of same-sexed couples’ constitutional ri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4267080" cy="3021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42670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eginning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2008 Prop 8 proponents submitted a pet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placed on the ballot for the 2008 general 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10080" y="36576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562720" y="13716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 8 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sides raised large amounts of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s featured political heavy weights and celeb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029200" y="1219320"/>
            <a:ext cx="2819520" cy="2116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34120" y="3429000"/>
            <a:ext cx="23875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3636" t="33873" r="45455" b="10487"/>
          <a:stretch/>
        </p:blipFill>
        <p:spPr>
          <a:xfrm>
            <a:off x="0" y="1828800"/>
            <a:ext cx="5143680" cy="4219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105520" y="2209680"/>
            <a:ext cx="32004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 8 pa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3%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7%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dded a new section (7.5) to article 1 of the California state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marriage between a man and a woman is valid or recognized in California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4038480" cy="3021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638680" y="259092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all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suits to repeal the ballot were fi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2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2009 the California supreme court ruled to uphold the bal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18,000 same-sex marriages will remain val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038480" y="2362320"/>
            <a:ext cx="47246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s on E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petition to strike down prop 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ill remove section 7.5 of artic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lso specifically states that no school curriculum will have to change nor will any church have to perform a service that is incongruent with their belie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297180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c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0PgjcgqFYP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youtube.com/watch?v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cd_ai2LrgJ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01:18:17Z</dcterms:created>
  <dc:creator>Tyler</dc:creator>
  <dc:description/>
  <dc:language>en-US</dc:language>
  <cp:lastModifiedBy>Tyler</cp:lastModifiedBy>
  <dcterms:modified xsi:type="dcterms:W3CDTF">2009-07-20T18:58:03Z</dcterms:modified>
  <cp:revision>24</cp:revision>
  <dc:subject/>
  <dc:title>Slide 1</dc:title>
</cp:coreProperties>
</file>