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A387-46F9-430F-8A21-DD64974E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FFBE-800B-4E1D-AF34-35B0A4FD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7180-F2E5-4ADB-9F61-570E256A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4AE3-5BA6-4D24-96DE-C9BB6D1D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ED7C-7C99-4201-9C28-765E317D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42A-4DA9-4F0A-B348-A1B3DB77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26FD-2F31-4F8A-834C-8848DA30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ACD-F2DD-4666-8C28-85A87B0B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AC1F-DA3F-4AC4-AC65-BEB92DC2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D705-0700-4076-96D3-00B7B546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3D90-3583-4CA7-8D35-397164D2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11DB-10FE-4845-8AAA-57D13F52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D32C-7C38-4864-8F7E-C53FC35DF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0PgjcgqFYP4" TargetMode="External"/><Relationship Id="rId2" Type="http://schemas.openxmlformats.org/officeDocument/2006/relationships/hyperlink" Target="http://www.youtube.com/watch?v=cd_ai2LrgJ0" TargetMode="External"/><Relationship Id="rId3" Type="http://schemas.openxmlformats.org/officeDocument/2006/relationships/hyperlink" Target="http://www.youtube.com/watch?v=cd_ai2LrgJ0" TargetMode="External"/><Relationship Id="rId4" Type="http://schemas.openxmlformats.org/officeDocument/2006/relationships/hyperlink" Target="http://www.youtube.com/watch?v=cd_ai2LrgJ0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iti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524560" cy="276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28800" y="2666880"/>
            <a:ext cx="55245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re Marriag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08 California supreme court ruled that barring same-sexed couples from marriage is a violation of same-sexed couples’ constitutional r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4267080" cy="302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42670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eginning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08 Prop 8 proponents submitted a pet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placed on the ballot for the 2008 general 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10080" y="36576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62720" y="13716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 8 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sides raised large amounts of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s featured political heavy weights and celeb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2819520" cy="2116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4120" y="3429000"/>
            <a:ext cx="23875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3636" t="33873" r="45455" b="10487"/>
          <a:stretch/>
        </p:blipFill>
        <p:spPr>
          <a:xfrm>
            <a:off x="0" y="1828800"/>
            <a:ext cx="5143680" cy="4219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05520" y="2209680"/>
            <a:ext cx="3200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 8 pa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3%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7%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dded a new section (7.5) to article 1 of the California state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marriage between a man and a woman is valid or recognized in California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4038480" cy="3021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638680" y="259092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all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suits to repeal the ballot were fi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2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2009 the California supreme court ruled to uphold the bal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18,000 same-sex marriages will remain val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47246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 on E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petition to strike down prop 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ill remove section 7.5 of artic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lso specifically states that no school curriculum will have to change nor will any church have to perform a service that is incongruent with their belie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297180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0PgjcgqFYP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cd_ai2LrgJ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01:18:17Z</dcterms:created>
  <dc:creator>Tyler</dc:creator>
  <dc:description/>
  <dc:language>en-US</dc:language>
  <cp:lastModifiedBy>Tyler</cp:lastModifiedBy>
  <dcterms:modified xsi:type="dcterms:W3CDTF">2009-07-20T18:58:03Z</dcterms:modified>
  <cp:revision>24</cp:revision>
  <dc:subject/>
  <dc:title>Slide 1</dc:title>
</cp:coreProperties>
</file>