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DB6E-1599-4189-91F3-644ADC149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27D0-DF44-4692-8522-C3BA8178A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BB3B-F843-4193-A833-3CD5953A3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7E8D-EB49-421A-B131-9574FF9A6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5489-131A-42AD-9BFA-51850562A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A879-7CFC-4A3B-9E3A-F62A38E5C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3C72-0110-4111-8042-F22D997DC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0BBB-95B6-4DBD-82E3-5FD58B356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5AFE-7624-4DBD-B05B-8E5AD4532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BEF2-973A-4598-A37C-63E4950CE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477E-BF15-469F-A323-A4B9CD5B7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7D5F-4669-4F03-9D7E-549A350EE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ccecff"/>
            </a:gs>
            <a:gs pos="100000">
              <a:srgbClr val="99c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D9BB2-1DE9-4BA7-98D7-0BE1FFE0A5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0PgjcgqFYP4" TargetMode="External"/><Relationship Id="rId2" Type="http://schemas.openxmlformats.org/officeDocument/2006/relationships/hyperlink" Target="http://www.youtube.com/watch?v=cd_ai2LrgJ0" TargetMode="External"/><Relationship Id="rId3" Type="http://schemas.openxmlformats.org/officeDocument/2006/relationships/hyperlink" Target="http://www.youtube.com/watch?v=cd_ai2LrgJ0" TargetMode="External"/><Relationship Id="rId4" Type="http://schemas.openxmlformats.org/officeDocument/2006/relationships/hyperlink" Target="http://www.youtube.com/watch?v=cd_ai2LrgJ0" TargetMode="External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ccecff"/>
            </a:gs>
            <a:gs pos="100000">
              <a:srgbClr val="99c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osition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828800" y="2666880"/>
            <a:ext cx="5524560" cy="27622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828800" y="2666880"/>
            <a:ext cx="552456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ccecff"/>
            </a:gs>
            <a:gs pos="100000">
              <a:srgbClr val="99c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re Marriage C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y 1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2008 California supreme court ruled that barring same-sexed couples from marriage is a violation of same-sexed couples’ constitutional righ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876920" y="2057400"/>
            <a:ext cx="4267080" cy="30211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876920" y="2057400"/>
            <a:ext cx="4267080" cy="30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ccecff"/>
            </a:gs>
            <a:gs pos="100000">
              <a:srgbClr val="99c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beginning of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p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ne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2008 Prop 8 proponents submitted a peti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was placed on the ballot for the 2008 general ele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410080" y="3657600"/>
            <a:ext cx="3048120" cy="30481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562720" y="137160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ccecff"/>
            </a:gs>
            <a:gs pos="100000">
              <a:srgbClr val="99c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 8 A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th sides raised large amounts of mone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s featured political heavy weights and celebr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029200" y="1219320"/>
            <a:ext cx="2819520" cy="21160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334120" y="3429000"/>
            <a:ext cx="238752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ccecff"/>
            </a:gs>
            <a:gs pos="100000">
              <a:srgbClr val="99c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rcRect l="3636" t="33873" r="45455" b="10487"/>
          <a:stretch/>
        </p:blipFill>
        <p:spPr>
          <a:xfrm>
            <a:off x="0" y="1828800"/>
            <a:ext cx="5143680" cy="42195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105520" y="2209680"/>
            <a:ext cx="320040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p 8 pas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3% 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7% 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ccecff"/>
            </a:gs>
            <a:gs pos="100000">
              <a:srgbClr val="99c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eff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419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added a new section (7.5) to article 1 of the California state constit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marriage between a man and a woman is valid or recognized in California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876920" y="2057400"/>
            <a:ext cx="4038480" cy="30211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638680" y="2590920"/>
            <a:ext cx="266724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ccecff"/>
            </a:gs>
            <a:gs pos="100000">
              <a:srgbClr val="99c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all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wsuits to repeal the ballot were fil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 26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2009 the California supreme court ruled to uphold the ballo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18,000 same-sex marriages will remain vali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038480" y="2362320"/>
            <a:ext cx="4724640" cy="26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ccecff"/>
            </a:gs>
            <a:gs pos="100000">
              <a:srgbClr val="99c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es on Equ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952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 petition to strike down prop 8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will remove section 7.5 of article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also specifically states that no school curriculum will have to change nor will any church have to perform a service that is incongruent with their belief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5334120" y="2438280"/>
            <a:ext cx="2971800" cy="24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ccecff"/>
            </a:gs>
            <a:gs pos="100000">
              <a:srgbClr val="99c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youtube.com/watch?v=0PgjcgqFYP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youtube.com/watch?v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=cd_ai2LrgJ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0T01:18:17Z</dcterms:created>
  <dc:creator>Tyler</dc:creator>
  <dc:description/>
  <dc:language>en-US</dc:language>
  <cp:lastModifiedBy>Tyler</cp:lastModifiedBy>
  <dcterms:modified xsi:type="dcterms:W3CDTF">2009-07-20T18:58:03Z</dcterms:modified>
  <cp:revision>24</cp:revision>
  <dc:subject/>
  <dc:title>Slide 1</dc:title>
</cp:coreProperties>
</file>