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29C-0A48-493A-A653-E3C49C71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C3D-8A2C-49F4-B402-A13FA77D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97F-7F07-4551-83A3-1BB5804A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A1B-755F-465F-B9D2-AFFEF199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DF4-AD61-424A-85E5-8A6247DA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6FD-EE59-4304-BCF1-95B57FFD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31D-2111-43F0-AF66-CB5E106D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69C-E5C7-4DC7-9845-6D3B6909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4D3-E0C5-40BF-8C8F-A3851BA8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706-3FD1-4602-BC42-66366145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1EF-E57F-4D84-8CB3-72966628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C49-3404-4937-8BB6-27E7EF00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78F7-3674-4FC5-9348-01C379FCF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PgjcgqFYP4" TargetMode="External"/><Relationship Id="rId2" Type="http://schemas.openxmlformats.org/officeDocument/2006/relationships/hyperlink" Target="http://www.youtube.com/watch?v=cd_ai2LrgJ0" TargetMode="External"/><Relationship Id="rId3" Type="http://schemas.openxmlformats.org/officeDocument/2006/relationships/hyperlink" Target="http://www.youtube.com/watch?v=cd_ai2LrgJ0" TargetMode="External"/><Relationship Id="rId4" Type="http://schemas.openxmlformats.org/officeDocument/2006/relationships/hyperlink" Target="http://www.youtube.com/watch?v=cd_ai2LrgJ0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524560" cy="276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55245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re Marriag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8 California supreme court ruled that barring same-sexed couples from marriage is a violation of same-sexed couples’ constitutional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267080" cy="302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4267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ginning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8 Prop 8 proponents submitted a pet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placed on the ballot for the 2008 general 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 8 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ides raised large amounts of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s featured political heavy weights and celeb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2819520" cy="211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2387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3636" t="33873" r="45455" b="10487"/>
          <a:stretch/>
        </p:blipFill>
        <p:spPr>
          <a:xfrm>
            <a:off x="0" y="1828800"/>
            <a:ext cx="5143680" cy="421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05520" y="2209680"/>
            <a:ext cx="3200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 8 pa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%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7%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dded a new section (7.5) to article 1 of the California stat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marriage between a man and a woman is valid or recognized in Californi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uits to repeal the ballot were f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9 the California supreme court ruled to uphold the bal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18,000 same-sex marriages will remain val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724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 on E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etition to strike down prop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remove section 7.5 of artic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so specifically states that no school curriculum will have to change nor will any church have to perform a service that is incongruent with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9718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0PgjcgqFY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cd_ai2LrgJ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1:18:17Z</dcterms:created>
  <dc:creator>Tyler</dc:creator>
  <dc:description/>
  <dc:language>en-US</dc:language>
  <cp:lastModifiedBy>Tyler</cp:lastModifiedBy>
  <dcterms:modified xsi:type="dcterms:W3CDTF">2009-07-20T18:58:03Z</dcterms:modified>
  <cp:revision>24</cp:revision>
  <dc:subject/>
  <dc:title>Slide 1</dc:title>
</cp:coreProperties>
</file>