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F64-82B5-4CA0-B920-7F9BE460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0A4-2509-41EA-9466-EC4F9951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C7C-F359-4383-9D33-B2EE2618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66C-FEE6-4F60-AD96-C80D124D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321-2318-494B-A4DA-106AD592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D558-C534-458B-95B9-83C6FF4C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F6A-3F62-4562-9C63-8125E2DF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9CF-0DD6-44D1-99B4-66C74CF1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F0B-A193-487A-AD53-6287CD6F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157-8EFF-4CF7-8933-6E1C5DBE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6B8-DBB3-43D4-81A7-510124EE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4B9-D6F0-41C8-9143-0F1C8FF9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2862-B10D-4E6E-8FB4-3E87AFB10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PgjcgqFYP4" TargetMode="External"/><Relationship Id="rId2" Type="http://schemas.openxmlformats.org/officeDocument/2006/relationships/hyperlink" Target="http://www.youtube.com/watch?v=cd_ai2LrgJ0" TargetMode="External"/><Relationship Id="rId3" Type="http://schemas.openxmlformats.org/officeDocument/2006/relationships/hyperlink" Target="http://www.youtube.com/watch?v=cd_ai2LrgJ0" TargetMode="External"/><Relationship Id="rId4" Type="http://schemas.openxmlformats.org/officeDocument/2006/relationships/hyperlink" Target="http://www.youtube.com/watch?v=cd_ai2LrgJ0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i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524560" cy="276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55245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re Marriag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8 California supreme court ruled that barring same-sexed couples from marriage is a violation of same-sexed couples’ constitutional r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267080" cy="302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42670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eginning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8 Prop 8 proponents submitted a pet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placed on the ballot for the 2008 general 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0080" y="36576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 8 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ides raised large amounts of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s featured political heavy weights and celeb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2819520" cy="211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4120" y="3429000"/>
            <a:ext cx="2387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3636" t="33873" r="45455" b="10487"/>
          <a:stretch/>
        </p:blipFill>
        <p:spPr>
          <a:xfrm>
            <a:off x="0" y="1828800"/>
            <a:ext cx="5143680" cy="421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05520" y="2209680"/>
            <a:ext cx="3200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 8 pa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%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7%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dded a new section (7.5) to article 1 of the California stat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marriage between a man and a woman is valid or recognized in Californi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uits to repeal the ballot were f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009 the California supreme court ruled to uphold the bal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18,000 same-sex marriages will remain val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4724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 on E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etition to strike down prop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ill remove section 7.5 of artic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so specifically states that no school curriculum will have to change nor will any church have to perform a service that is incongruent with their belie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29718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0PgjcgqFYP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cd_ai2LrgJ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1:18:17Z</dcterms:created>
  <dc:creator>Tyler</dc:creator>
  <dc:description/>
  <dc:language>en-US</dc:language>
  <cp:lastModifiedBy>Tyler</cp:lastModifiedBy>
  <dcterms:modified xsi:type="dcterms:W3CDTF">2009-07-20T18:58:03Z</dcterms:modified>
  <cp:revision>24</cp:revision>
  <dc:subject/>
  <dc:title>Slide 1</dc:title>
</cp:coreProperties>
</file>