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5FC-05CA-4CDA-8212-640DDC1E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606-8EC9-417C-A1FD-82BECA1A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E19-AF4F-4736-9475-9C51BF14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3F0-ED29-4417-8926-18BA5D01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038-462F-4E5D-BCF4-2A5DF543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F69-C6E7-4513-8B71-E15318BB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285-AB5E-4AB0-8CCD-2884DD3B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1BF-BEC7-4A4C-AC77-F8A5DEDF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E71-BDFE-41D3-9EEF-2AA395CB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72F-258F-4FBA-94E9-498BC39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934-719F-4C9C-89A8-3B291995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60B-2B22-4CB0-B71D-DBBEE358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A14A-6865-42E3-A7C4-0FF14139C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Evolution and Development of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of powers in our federal system has changed dramatically over the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reme Court in its role as interpreter of constitution has been a major player in the redefinition of our Federa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burry V. Ma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cCulloch v. Maryland (18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bbons v. Ogden (18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ed Scott v. Sandford (185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cCulloch v. Maryl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Cullu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the first major decision by the Supreme Court under Chief Justice John Marshall about the relationship between the states and the national gover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t upheld the power of the national government and denied the right of a state to tax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t’s broad interpretation of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cessary and proper cla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ved the way for later rulings upholding expansive federal p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bbons v. Ogd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centered on the conflict between the states and the powers of Con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New York grant a monopoly concession on the navigation of the Hudson River?  The Hudson River forms part of the border between New York and New Jersey and the U.S. Congress also licensed a ship to sail the Hud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constitutional questio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about the scope of Congress' authority under the Commerce Cla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bb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, the Court upheld broad congressional power over interstate comme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red Scott v. Sandfor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reme Court articulated the idea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urrent pow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ual feder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separate but equally powerful levels of government is preferable, and the national government should not exceed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umerated pow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ney Court held that Mr. Scott w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U.S. citizen and therefore not entitled to sue in federal co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se was dismissed and Scott remained a sla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ey further wrote that Congress had no power to abolish slavery in the territories and slaves were private property protected by the Con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ivil War and Bey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al federalism remained the Supreme Court's framework for federalism even after the adoption of the 13th, 14th, and 15th amendm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al federalism finally ended in the 1930s, when the crisis of the Great Depression demanded powerful actions from the national gover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hanging Nature of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 to the 1930s, many scholars used the analogy of a layer cake to describe federalis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layer had clearly defined powers and responsibiliti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New Deal, the analogy of a marble cake seemed more appropriate because the lines of authority were much more mix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rble cake federalism is often call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operative federal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has a much more powerful national gover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have a cooperative role, as did many c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ederalism and the Supreme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the 1980s and 1990s, many Americans began to think that the national government was too big, too strong, and too distant to understand their concer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preme Court, once again, played a role in this new evolution of federalis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ity and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ism as outlined at Philadelphia in 1787 has evolved considerably over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, the states remained quite powerful, and the national government was small and wea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ime the national government became progressively stro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we have a Court today that is more interested in reinvesting power in the Tenth Amendment and in th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9:22:08Z</dcterms:created>
  <dc:creator>Dr. Robert E. Sterken</dc:creator>
  <dc:description/>
  <dc:language>en-US</dc:language>
  <cp:lastModifiedBy>setup</cp:lastModifiedBy>
  <dcterms:modified xsi:type="dcterms:W3CDTF">2009-07-08T15:33:25Z</dcterms:modified>
  <cp:revision>10</cp:revision>
  <dc:subject/>
  <dc:title>FEDERALISM</dc:title>
</cp:coreProperties>
</file>