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1E5-A13F-4426-8D1E-3B821140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97C-CE30-4ED8-A233-62DEABB8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100-8E48-4C28-9C79-73EDA109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5B2-9B49-42B0-9359-2E13C909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CCA-51D9-4066-BC21-F52CAD94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AB6-D70A-4AFA-B8BB-6226B7D6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FB5-4931-43EC-A5E3-DEB65ACD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6A3-3F7F-4F34-BF1A-39C1A59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87D-D8CC-45BF-8058-6F3FA108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8D5-732D-4977-9959-DC547DF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F63-760D-4FF0-9F92-8CAEC4F1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73C-EC50-410D-8B22-01D4CEC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9980-9E4A-4075-AFA3-4DB620436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Evolution and Development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of powers in our federal system has changed dramatically over the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reme Court in its role as interpreter of constitution has been a major player in the redefinition of our Feder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burry V. Ma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ulloch v. Maryland (18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bbons v. Ogden (18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d Scott v. Sandford (18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cCulloch v. Maryl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Cullu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the first major decision by the Supreme Court under Chief Justice John Marshall about the relationship between the states and the nation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 upheld the power of the national government and denied the right of a state to tax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’s broad interpretation of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cessary and proper cla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ved the way for later rulings upholding expansive federal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bbons v. Ogd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centered on the conflict between the states and the powers of Con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New York grant a monopoly concession on the navigation of the Hudson River?  The Hudson River forms part of the border between New York and New Jersey and the U.S. Congress also licensed a ship to sail the Hud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constitutional ques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about the scope of Congress' authority under the Commerce Cla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 the Court upheld broad congressional power over interstate comme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ed Scott v. Sandfor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reme Court articulated the id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urrent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al feder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separate but equally powerful levels of government is preferable, and the national government should not exceed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umerated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ney Court held that Mr. Scott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U.S. citizen and therefore not entitled to sue in federal co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se was dismissed and Scott remained a sla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ey further wrote that Congress had no power to abolish slavery in the territories and slaves were private property protected by the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ivil War and Bey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remained the Supreme Court's framework for federalism even after the adoption of the 13th, 14th, and 15th amend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finally ended in the 1930s, when the crisis of the Great Depression demanded powerful actions from the national gover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anging Nature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 to the 1930s, many scholars used the analogy of a layer cake to describe federal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ayer had clearly defined powers and responsibilit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New Deal, the analogy of a marble cake seemed more appropriate because the lines of authority were much more mix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rble cake federalism is often ca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operative federal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as a much more powerful national gover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have a cooperative role, as did many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ederalism and the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the 1980s and 1990s, many Americans began to think that the national government was too big, too strong, and too distant to understand their concer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preme Court, once again, played a role in this new evolution of federalis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ity and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ism as outlined at Philadelphia in 1787 has evolved considerably over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the states remained quite powerful, and the national government was small and wea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 the national government became progressively stro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e have a Court today that is more interested in reinvesting power in the Tenth Amendment and in th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22:08Z</dcterms:created>
  <dc:creator>Dr. Robert E. Sterken</dc:creator>
  <dc:description/>
  <dc:language>en-US</dc:language>
  <cp:lastModifiedBy>setup</cp:lastModifiedBy>
  <dcterms:modified xsi:type="dcterms:W3CDTF">2009-07-08T15:33:25Z</dcterms:modified>
  <cp:revision>10</cp:revision>
  <dc:subject/>
  <dc:title>FEDERALISM</dc:title>
</cp:coreProperties>
</file>