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77D-8D55-46D2-818C-58530E00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D8D-F1FA-4E1D-8840-4975D40C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4EE-DE84-4CB7-9AC6-FD5152D7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E85-FA91-4AFA-ACBA-577F637B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1B3-A53B-4FA5-8D61-15E063F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A0C-3AB0-46CF-9D47-FF7948C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EE0-DA18-44C8-95F1-FED4BF95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535-A1B7-441D-92C1-B31F61D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01A-3993-40C1-A473-F4101E4C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8C7-F85F-4452-839A-53A1125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343-AC8D-4924-84B5-48723F5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EDE-2041-407B-A567-7FFB3F2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0A0F-AE6D-4090-A327-620F5FB3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Evolution and Development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of powers in our federal system has changed dramatically over the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reme Court in its role as interpreter of constitution has been a major player in the redefinition of our Feder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burry V.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. Marylan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bbons v. Ogden (18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d Scott v. Sandford (18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cCulloch v. Maryl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Cull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the first major decision by the Supreme Court under Chief Justice John Marshall about the relationship between the states and the nation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 upheld the power of the national government and denied the right of a state to tax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’s broad interpretation of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cessary and proper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ved the way for later rulings upholding expansive federal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bbons v. Ogd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centered on the conflict between the states and the powers of Con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New York grant a monopoly concession on the navigation of the Hudson River?  The Hudson River forms part of the border between New York and New Jersey and the U.S. Congress also licensed a ship to sail the Hud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constitutional ques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out the scope of Congress' authority under the Commerce Cla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the Court upheld broad congressional power over interstate comme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d Scott v. Sandfo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articulated the id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al feder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separate but equally powerful levels of government is preferable, and the national government should not exceed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umerated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ney Court held that Mr. Scot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U.S. citizen and therefore not entitled to sue in federal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e was dismissed and Scott remained a s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ey further wrote that Congress had no power to abolish slavery in the territories and slaves were private property protected by 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ivil War and Bey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remained the Supreme Court's framework for federalism even after the adoption of the 13th, 14th, and 15th amend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finally ended in the 1930s, when the crisis of the Great Depression demanded powerful actions from the national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nging Nature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the 1930s, many scholars used the analogy of a layer cake to describe federal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ayer had clearly defined powers and responsibilit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New Deal, the analogy of a marble cake seemed more appropriate because the lines of authority were much more mi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rble cake federalism is often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operative federal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as a much more powerful national gover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have a cooperative role, as did many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ism and th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the 1980s and 1990s, many Americans began to think that the national government was too big, too strong, and too distant to understand their concer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preme Court, once again, played a role in this new evolution of federalis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ity and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ism as outlined at Philadelphia in 1787 has evolved considerably over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the states remained quite powerful, and the national government was small and we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 the national government became progressively str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 have a Court today that is more interested in reinvesting power in the Tenth Amendment and in th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22:08Z</dcterms:created>
  <dc:creator>Dr. Robert E. Sterken</dc:creator>
  <dc:description/>
  <dc:language>en-US</dc:language>
  <cp:lastModifiedBy>setup</cp:lastModifiedBy>
  <dcterms:modified xsi:type="dcterms:W3CDTF">2009-07-08T15:33:25Z</dcterms:modified>
  <cp:revision>10</cp:revision>
  <dc:subject/>
  <dc:title>FEDERALISM</dc:title>
</cp:coreProperties>
</file>